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14FF6E-F66F-46D7-8098-61AD607E89D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BB8A7F-1A9A-400D-BD3D-59BE33F781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E27089-14DE-49D0-AF45-C3DCB7F5B1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ADA14F-A6A4-4555-887D-443BB7ED76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D1C5D4-8EB8-47B1-907B-81729664F0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8574D7-5334-4D82-B400-1061E4C4E4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CFC920-709E-41ED-B263-8D18FF91EF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80ADF3-FD0E-4813-A0E6-F602B83F79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E21127-BA9E-43AF-9ED1-B5E27DDE8B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1056C9-24FB-4292-BD66-9797C8EE1A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8809D8-8230-4036-99A2-7F7183B799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33D6A2-83F8-45A2-A00F-ECC79CA844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79AD45-435A-48B6-86CB-84786D13EE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56373E-AE28-4B3A-9016-06BD2561C8A4}" type="datetime3">
              <a:rPr b="0" lang="en-US" sz="1400" spc="-1" strike="noStrike">
                <a:solidFill>
                  <a:srgbClr val="ffffff"/>
                </a:solidFill>
                <a:latin typeface="Times New Roman"/>
              </a:rPr>
              <a:t>July 28,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49A676-48E0-435D-B0BF-DC422B3E244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9C8B0794-84A9-40A4-BA16-B1E472FDB39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78AB6FF6-AB03-4F75-924B-977B4AAC3CB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A80B9019-B317-4355-B760-F44EB5C704B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3868C600-CC6B-4592-AC23-BED75F7D894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9691C064-66FC-4F20-A6E6-3821E4AD7FC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5658BBA3-815F-4A1A-9CC1-E2E190BACFC3}"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6D17A6C9-3A9B-4569-8EB9-F664DEA3FD9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C2186CB9-53CB-45E5-B605-D732E387558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2F8B9B92-7D78-4143-957E-07FEA21AA03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7EB2539E-C7DB-443C-A42B-1DECA533DFC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EFC35774-9228-4EA2-B961-52D4124257C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8C23073D-1367-4223-894E-FEE31AED598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2AA7154A-7200-43D6-AA32-1C43D3FFE61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1A417161-47C0-45FE-BFCD-3261C839367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